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5B6B-95A3-4E5F-A6D4-A7C0EF8D8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FA79-BB19-471E-8125-D0735EC83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827-DE60-475A-A83C-18093A7C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1E8-4C1A-4374-B644-39D89991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13E-EC1D-44E2-B6FC-0950D4BD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94E-BE1F-4DDB-BE91-6F1CF204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F399-336F-44A7-9FC9-C136B49F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8634-3B30-4F50-A7CA-F031FC0A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DF6A-A755-4A90-9DDB-E3DE7562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5679-C467-406C-9287-CE3868B6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C9E1-7C5A-48FD-8993-75007A51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2E6C-0798-480C-9CF3-6222DB04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EBE8-8AAB-477C-BA21-9C7D30FE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794-1D13-47DE-9C9A-E374ED5C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D803-4B8B-4D0B-9494-BEAEE6AF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26FC-5023-4D6E-A683-127F4A67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B3D9-DC19-41B2-8C33-AF15CEE3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9068-2B20-4A28-ABA3-5B4F7DA9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F0BC-9C22-4E63-AF4F-CF80693D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980-1B57-4109-A922-DA048CD4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A35-B862-41FB-B828-998FED39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469-30B4-4A5B-B743-A303A923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E23-9607-4C49-BD0A-5E9737A8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8E6-5F4C-4604-897F-2B1BD253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DEB-BEAB-4221-8E20-2F0238D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2DA-B99E-482A-8822-21E4947F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8B3B-CD03-43F6-9C67-E568365072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27EE-2F50-48B3-90CE-ECB4C5E421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Introduction 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to</a:t>
            </a: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 pathoph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y</a:t>
            </a: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siolog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tiolog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cal 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iological factors can b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rimary (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ain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secondary (helping)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ending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rom the external environment or the organism itself)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vided into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xogenous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endogenous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xogenous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 etiological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g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trauma,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, pressure, irradiation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ag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sons, drug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Biological agents (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roorganism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: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eri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u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gu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sit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tional imbalance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9909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ndogenous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etiological 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ed (transmitted from the parents to their children through the ge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enital (present from the bi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en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unolog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ndogenous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factors examp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Inherited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conditions that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ed down to you from your par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mophil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disorder that leads to excessive bleeding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Metabolic disor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ormalities in the chemical signaling and interaction in the body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abetes mellitu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lood sugar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Problems with immunity</a:t>
            </a: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eaction of the immune system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4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is Pathogenesis</a:t>
            </a:r>
            <a:r>
              <a:rPr b="0" lang="sr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r>
              <a:rPr b="1" i="1" lang="en-US" sz="4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87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patho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pain, suffering, distres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genesi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onset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Deals with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mechanism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involved in disease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onset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and disease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Example of p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athogenesi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214200" y="957240"/>
            <a:ext cx="83584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FTR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stic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rosis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smembrane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39640" y="148428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TR controls the movement of chloride ions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e64f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epithelial cells of the exocrine glands </a:t>
            </a: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lumen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(biliary tract, bronchial glands, small intestine,tes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e64f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epithelial cells of the sweat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ectangle 6"/>
          <p:cNvGrpSpPr/>
          <p:nvPr/>
        </p:nvGrpSpPr>
        <p:grpSpPr>
          <a:xfrm>
            <a:off x="4522680" y="1816200"/>
            <a:ext cx="4054680" cy="4352760"/>
            <a:chOff x="4522680" y="1816200"/>
            <a:chExt cx="4054680" cy="4352760"/>
          </a:xfrm>
        </p:grpSpPr>
        <p:pic>
          <p:nvPicPr>
            <p:cNvPr id="138" name="Rectangle 6" descr=""/>
            <p:cNvPicPr/>
            <p:nvPr/>
          </p:nvPicPr>
          <p:blipFill>
            <a:blip r:embed="rId1"/>
            <a:stretch/>
          </p:blipFill>
          <p:spPr>
            <a:xfrm>
              <a:off x="4522680" y="1816200"/>
              <a:ext cx="405468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27720" y="1824120"/>
              <a:ext cx="4044960" cy="43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Cystic fibrosis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aused by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ce of mu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th copies of the gene for the CFTR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nnel is primarily responsible f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ling the movement of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from inside to outside of the c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 the sweat ducts, it controls the movement of chlorid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from the sweat duct into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FT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not 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cretions which are usually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thin become thick and stick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324000" y="541440"/>
            <a:ext cx="7543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Function of </a:t>
            </a:r>
            <a:r>
              <a:rPr b="0" lang="sr-Latn-CS" sz="4400" spc="-1" strike="noStrike">
                <a:solidFill>
                  <a:srgbClr val="0070c0"/>
                </a:solidFill>
                <a:latin typeface="Times New Roman"/>
              </a:rPr>
              <a:t> CFTR 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protein </a:t>
            </a:r>
            <a:r>
              <a:rPr b="0" lang="sr-Latn-RS" sz="3600" spc="-1" strike="noStrike">
                <a:solidFill>
                  <a:srgbClr val="330033"/>
                </a:solidFill>
                <a:latin typeface="Times New Roman"/>
              </a:rPr>
              <a:t>(CFTR gene, chromosome 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ectangle 5"/>
          <p:cNvGrpSpPr/>
          <p:nvPr/>
        </p:nvGrpSpPr>
        <p:grpSpPr>
          <a:xfrm>
            <a:off x="822240" y="1292400"/>
            <a:ext cx="7248600" cy="4809960"/>
            <a:chOff x="822240" y="1292400"/>
            <a:chExt cx="7248600" cy="4809960"/>
          </a:xfrm>
        </p:grpSpPr>
        <p:pic>
          <p:nvPicPr>
            <p:cNvPr id="144" name="Rectangle 5" descr=""/>
            <p:cNvPicPr/>
            <p:nvPr/>
          </p:nvPicPr>
          <p:blipFill>
            <a:blip r:embed="rId1"/>
            <a:stretch/>
          </p:blipFill>
          <p:spPr>
            <a:xfrm>
              <a:off x="822240" y="1292400"/>
              <a:ext cx="724860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26920" y="1295280"/>
              <a:ext cx="723924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Clinical picture of cystic fibro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7" name="Picture 23" descr="GD110014"/>
          <p:cNvPicPr/>
          <p:nvPr/>
        </p:nvPicPr>
        <p:blipFill>
          <a:blip r:embed="rId1"/>
          <a:srcRect l="3447" t="0" r="0" b="0"/>
          <a:stretch/>
        </p:blipFill>
        <p:spPr>
          <a:xfrm>
            <a:off x="214200" y="1517760"/>
            <a:ext cx="508176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2271600" y="2449440"/>
            <a:ext cx="57240" cy="98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266920" y="3249720"/>
            <a:ext cx="57240" cy="9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2233440" y="3306600"/>
            <a:ext cx="57240" cy="748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459440" y="1008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ll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039120" y="245916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ile 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 flipH="1">
            <a:off x="2778120" y="2790720"/>
            <a:ext cx="37944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2049480" y="1293840"/>
            <a:ext cx="4140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221400" y="221472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ystic fib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Times New Roman"/>
              </a:rPr>
              <a:t>of du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 flipV="1">
            <a:off x="1327320" y="2577600"/>
            <a:ext cx="903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295960" y="1571760"/>
            <a:ext cx="401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ty sk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ually the first 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ck, viscous secretion cove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ory and digestive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m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571680" y="5003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 flipV="1">
            <a:off x="1709640" y="4452840"/>
            <a:ext cx="41616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ctur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2960" y="1500120"/>
            <a:ext cx="8129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genesis of th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urse (stages of the disease) and the outcome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6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Definition of the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d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 process of known etiology and pathogenesi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presence by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pecific cellular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issue damag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 and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linical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mptoms and signs of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ymptoms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jectiv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 evidence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of a dise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eaning that other people only know about them if informed by the individual with the condition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(back pain, fatigue etc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igns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 evid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disease, such as a skin rash or a cough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mptoms and signs of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ease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results from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or decrease in metabolism or cel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function such as const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function such as increased mucus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mechanical function such as a seiz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assification of diseases according to the cours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cu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 up to seven day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ubacu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 from seven days to 6 week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hronic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longer then 6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spectively…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rms of the disease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ubclinical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 (lat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ild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 disease with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learly expressed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ever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erminal degre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s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a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e distinguish the following stages of the disease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tent</a:t>
            </a: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iod between exposure to etiological factor(s) and first symptoms/signs (in infectious diseases it is incubation period) - no manifestations of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ntroductory or 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rodromal</a:t>
            </a: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s and symptoms are usually mild and nonspecific like fatigue, fever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anifest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r expressed disease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ypical location of pain, typical skin changes, changes in plasma concentrations of minerals and other substances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 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regression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l recovery of normal functions of the body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he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e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ding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healing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tio ad integrum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in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ransition to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athologic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lethal outcom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r death of th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us letal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786120" y="4203720"/>
            <a:ext cx="24210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70c0"/>
                </a:solidFill>
                <a:latin typeface="Times New Roman"/>
              </a:rPr>
              <a:t>1. What 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is </a:t>
            </a:r>
            <a:r>
              <a:rPr b="0" lang="sk-SK" sz="4400" spc="-1" strike="noStrike">
                <a:solidFill>
                  <a:srgbClr val="0070c0"/>
                </a:solidFill>
                <a:latin typeface="Times New Roman"/>
              </a:rPr>
              <a:t>the pathophysiology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derives from Greek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pathos = disease, pain, suffering</a:t>
            </a:r>
            <a:r>
              <a:rPr b="0" lang="sr-Latn-RS" sz="3200" spc="-1" strike="noStrike">
                <a:solidFill>
                  <a:srgbClr val="0d0d0d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fysis = nature; </a:t>
            </a:r>
            <a:r>
              <a:rPr b="0" i="1" lang="sk-SK" sz="3200" spc="-1" strike="noStrike">
                <a:solidFill>
                  <a:srgbClr val="0d0d0d"/>
                </a:solidFill>
                <a:latin typeface="Times New Roman"/>
              </a:rPr>
              <a:t>and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logos =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Definition of pathophysi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a biomedical science dealing with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functional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changes in diseased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It studies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disordered or </a:t>
            </a:r>
            <a:r>
              <a:rPr b="0" lang="sk-SK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altered functions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-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the physiologic mechanisms</a:t>
            </a:r>
            <a:r>
              <a:rPr b="0" lang="sr-Latn-RS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altered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by disease in the living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d0d0d"/>
                </a:solidFill>
                <a:latin typeface="Times New Roman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ubject</a:t>
            </a:r>
            <a:r>
              <a:rPr b="0" lang="sr-Latn-R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</a:t>
            </a: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of pathophysiology</a:t>
            </a:r>
            <a:r>
              <a:rPr b="0" lang="sr-Latn-R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ar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he mechanisms of their action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70c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70c0"/>
                </a:solidFill>
                <a:latin typeface="Times New Roman"/>
              </a:rPr>
              <a:t>nternational Society for Pathophysiology (1998)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Pathophysiology is a modern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integrative biomedical science 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founded on basic and clinical research that is concerned with the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mechanisms responsible for the initiation,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development,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and treatment of pathological processes 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in humans and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lassification of pathophysiolog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Distingu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genera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pathophysi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It deals with general pathologic processes, involved in pathogenesis of more than one disease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, for example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 inflammation,fever,shock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special</a:t>
            </a:r>
            <a:r>
              <a:rPr b="0" lang="sr-C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</a:rPr>
              <a:t>pathophysiology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(is devoted to analysis and explanation of pathomechanisms involved in functional disturbances of the organs and systems of 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</a:rPr>
              <a:t>organs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hematological, neurologic, metabolic disorders, 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dysfunctions of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respiratory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 system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 etc)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Definitions of health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94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ealth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is a state of complet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hysical, psychological and social well-being,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ot just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absence of illness and incapac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ealth is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 balance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etween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structure and function of the organism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nd the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ental experience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which enables full working ability and thus full enjoyment of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he disease </a:t>
            </a: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is a disorder of this balance, with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reduced capacity </a:t>
            </a: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for work and reduced enjoyment of life and ment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3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is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tiology</a:t>
            </a:r>
            <a:r>
              <a:rPr b="0" lang="sr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r>
              <a:rPr b="1" i="1" lang="en-US" sz="4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t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Deals with </a:t>
            </a:r>
            <a:r>
              <a:rPr b="0" lang="sk-SK" sz="2800" spc="-1" strike="noStrike">
                <a:solidFill>
                  <a:srgbClr val="e64f0c"/>
                </a:solidFill>
                <a:latin typeface="Times New Roman"/>
              </a:rPr>
              <a:t>causes</a:t>
            </a:r>
            <a:r>
              <a:rPr b="1" lang="sk-SK" sz="2800" spc="-1" strike="noStrike">
                <a:solidFill>
                  <a:srgbClr val="303000"/>
                </a:solidFill>
                <a:latin typeface="Times New Roman"/>
              </a:rPr>
              <a:t> (factors)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which 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are involved in disease</a:t>
            </a:r>
            <a:r>
              <a:rPr b="1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onset</a:t>
            </a:r>
            <a:r>
              <a:rPr b="1" lang="sr-Latn-RS" sz="2800" spc="-1" strike="noStrike">
                <a:solidFill>
                  <a:srgbClr val="303000"/>
                </a:solidFill>
                <a:latin typeface="Times New Roman"/>
              </a:rPr>
              <a:t>,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and</a:t>
            </a:r>
            <a:r>
              <a:rPr b="0" lang="sr-RS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64f0c"/>
                </a:solidFill>
                <a:latin typeface="Times New Roman"/>
              </a:rPr>
              <a:t>with</a:t>
            </a:r>
            <a:r>
              <a:rPr b="0" lang="sk-SK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64f0c"/>
                </a:solidFill>
                <a:latin typeface="Times New Roman"/>
              </a:rPr>
              <a:t>conditions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under which the causes are able</a:t>
            </a:r>
            <a:r>
              <a:rPr b="0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to induce disease</a:t>
            </a:r>
            <a:r>
              <a:rPr b="0" lang="sr-RS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processes</a:t>
            </a:r>
            <a:r>
              <a:rPr b="0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0:49:51Z</dcterms:created>
  <dc:creator>Simonovic</dc:creator>
  <dc:description/>
  <dc:language>en-US</dc:language>
  <cp:lastModifiedBy>User</cp:lastModifiedBy>
  <dcterms:modified xsi:type="dcterms:W3CDTF">2023-10-28T15:19:45Z</dcterms:modified>
  <cp:revision>85</cp:revision>
  <dc:subject/>
  <dc:title>UVOD U PATOLOŠKU FIZIOLOGIJU</dc:title>
</cp:coreProperties>
</file>